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317547"/>
        <c:axId val="20291717"/>
      </c:barChart>
      <c:catAx>
        <c:axId val="223175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91717"/>
        <c:crosses val="autoZero"/>
        <c:auto val="1"/>
        <c:lblAlgn val="ctr"/>
        <c:lblOffset val="100"/>
        <c:noMultiLvlLbl val="0"/>
      </c:catAx>
      <c:valAx>
        <c:axId val="202917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175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2275-D9D0-46E8-8E2F-21FD7E8C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B7FC-EF39-436B-B3BA-6D6F60E7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21AE-5F1D-4DD1-826A-22F766B8B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7599-F264-435C-A6BF-EE2D3DDE0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C7C5-5DB7-4841-9D87-AC3F0158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1EFB-F8F1-423A-9B67-02A9B286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DA4B-88B7-4038-BB93-24EE8C31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F497-84CC-466A-A7E7-785FF81D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5F26-0702-4869-8470-AB6E66C1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DCFD-F82C-4493-98F7-EA097403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5D59-8C28-4254-B752-ABA4FAFF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B05F-9F44-4341-BAD9-D5ECCA6D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49B8E-CC3E-456B-B551-54A087FA80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