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47701"/>
        <c:axId val="34228791"/>
      </c:barChart>
      <c:catAx>
        <c:axId val="75047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28791"/>
        <c:crosses val="autoZero"/>
        <c:auto val="1"/>
        <c:lblAlgn val="ctr"/>
        <c:lblOffset val="100"/>
        <c:noMultiLvlLbl val="0"/>
      </c:catAx>
      <c:valAx>
        <c:axId val="34228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47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859-AF25-4E31-A967-ADD607B8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B34-3AD1-4634-B9B0-CFD33729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4DC-582A-4FB4-AC1B-939A1B01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923-2A12-4431-A92B-1B679BC2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6A4-A035-4302-8FF1-5128D1DE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2F7-EF57-4656-8639-EE0D6AFB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541-ADC3-4729-834A-3D8A7286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00E-5AF2-42B7-915E-7A113ADB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37E-DE8A-4A6C-836E-29DB4E4E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C30-B863-4F55-B3E7-3BB18F7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85B-3C76-4652-A66B-E0480C0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3D8-AC00-4841-920D-DFA517CD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421FA-C8F2-4426-93C4-A7F8329D7F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