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944875"/>
        <c:axId val="9896365"/>
      </c:barChart>
      <c:catAx>
        <c:axId val="819448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896365"/>
        <c:crosses val="autoZero"/>
        <c:auto val="1"/>
        <c:lblAlgn val="ctr"/>
        <c:lblOffset val="100"/>
        <c:noMultiLvlLbl val="0"/>
      </c:catAx>
      <c:valAx>
        <c:axId val="989636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448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C1443-462B-41F6-A44B-CC8873319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0232-63D5-414C-9DD0-702B6B881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D74E-A777-4B3F-A9B3-66C87110A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3CEE7-66B1-4F18-9741-DC218A21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E6949-156A-43F7-B862-AA65A8B21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8AF4C-B834-49DA-876C-1AF2ADC50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424F-1FC1-42DE-A5DB-77A0A7A46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7DC4-1090-48BF-8149-660CDCAF8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1479-5F17-423E-BC31-E3D69B8A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7F33-08EE-457C-94C1-4F3200872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7586-2B97-441D-9AD2-4FC464DF7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3042-10FB-42E0-B552-CB26CD3C7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D05F05-BCC4-4B93-894C-03EF872C641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