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3398"/>
        <c:axId val="24386543"/>
      </c:barChart>
      <c:catAx>
        <c:axId val="9683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86543"/>
        <c:crosses val="autoZero"/>
        <c:auto val="1"/>
        <c:lblAlgn val="ctr"/>
        <c:lblOffset val="100"/>
        <c:noMultiLvlLbl val="0"/>
      </c:catAx>
      <c:valAx>
        <c:axId val="24386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3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E3D-70F0-4E8C-8D96-42A55192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49F-9DF7-490A-8ACF-0714F6D2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CE8-0DAE-4317-9CCF-ACFD4C60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EFA-476E-4E88-A752-E93D3B84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07A-80AB-4513-8E87-22F11FB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823-3E61-4A9C-B151-95FD673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50B-DFD1-4744-8C23-4DF589AD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AF7-566B-4EEB-86DB-8F03CA23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93A-449D-4066-8594-7DB59EF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BD3-BC23-474B-A839-BB25E3E3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536-2000-458E-9647-1461709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35A-EF66-4012-B427-BBDB8FC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E4E85-5797-4606-A766-2CFFF56AE5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