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53288"/>
        <c:axId val="81133431"/>
      </c:barChart>
      <c:catAx>
        <c:axId val="74753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33431"/>
        <c:crosses val="autoZero"/>
        <c:auto val="1"/>
        <c:lblAlgn val="ctr"/>
        <c:lblOffset val="100"/>
        <c:noMultiLvlLbl val="0"/>
      </c:catAx>
      <c:valAx>
        <c:axId val="81133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53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C9D-F39A-4FFD-A6B6-5B10C910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76D-9474-4B15-9D11-19BF6458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2CB-8DAE-496C-967A-465E21C3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59E-81CA-460B-B27F-0DCA282E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260-D4A0-4AEF-9130-4E954A1D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D10-D3F8-493C-A1A2-665189BD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AC0-F23D-4992-8340-289E0793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2A8-AC9D-4EFB-8EA0-E26AA672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E7E-F1C8-422A-B77A-ADE4D2B4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11D-AE21-4967-AAF1-0948550D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B4F-8CAC-4254-971B-66424462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A6F-9CF7-4E96-9EE5-38B71529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6105E-2B9A-4C93-8BC4-D17E4895F8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