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81087"/>
        <c:axId val="99360608"/>
      </c:barChart>
      <c:catAx>
        <c:axId val="14881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60608"/>
        <c:crosses val="autoZero"/>
        <c:auto val="1"/>
        <c:lblAlgn val="ctr"/>
        <c:lblOffset val="100"/>
        <c:noMultiLvlLbl val="0"/>
      </c:catAx>
      <c:valAx>
        <c:axId val="99360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81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D7D-85EE-4F39-BA3B-E3EDF562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E57-8DD4-4E89-8BD3-CD54C9C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B96-9ADF-4CAE-AE7F-0ED2A66D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8EC-C7B9-44C7-8C31-4316949B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F90-E612-4124-B289-3D36041F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48A-B61D-4654-B112-40C1A80F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EE5-A42F-430D-96DF-CCAF2C53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FA9-ED85-409F-8B97-634712C9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E8E-1DD8-4D6C-9315-A5DDC15A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19D-8EEF-440D-B92A-C5EAB175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E15-292E-4CD8-ABE3-6840092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C91-8954-408B-8999-9D489973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4A4CC-9B57-471D-9A8E-AF24A3AB61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