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70309"/>
        <c:axId val="41036027"/>
      </c:barChart>
      <c:catAx>
        <c:axId val="70370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36027"/>
        <c:crosses val="autoZero"/>
        <c:auto val="1"/>
        <c:lblAlgn val="ctr"/>
        <c:lblOffset val="100"/>
        <c:noMultiLvlLbl val="0"/>
      </c:catAx>
      <c:valAx>
        <c:axId val="41036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70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CDA-CFF8-4D0F-8023-3F1829A7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A99-CC61-476D-91B6-F3F9C876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ADF-8474-4689-A6EA-89F7F5D8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2D9-C419-49D2-9034-DF72DB56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250-8979-4363-9CA8-D5277E34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89A-226F-40C6-9E57-30D30E5F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1E6-79AF-43ED-8E33-5E1FDAEA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1B3-D83D-4123-AA58-1F9D7B95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557-E712-4050-A23F-C86A9148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B08-61CD-4830-B9B3-D39DEB0B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060-9933-4369-9AB0-A24B3F8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6CB-59AA-42E9-A593-64AD52F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1885D-44FB-4850-8D66-FBA35B5EDD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