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525751"/>
        <c:axId val="4012632"/>
      </c:barChart>
      <c:catAx>
        <c:axId val="695257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12632"/>
        <c:crosses val="autoZero"/>
        <c:auto val="1"/>
        <c:lblAlgn val="ctr"/>
        <c:lblOffset val="100"/>
        <c:noMultiLvlLbl val="0"/>
      </c:catAx>
      <c:valAx>
        <c:axId val="40126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5257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37E5-8594-44DA-BC74-F99BEAF32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8EAC-2A15-492B-AB4F-6469CEAEA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1B44-C5D1-49E7-B839-C416CB0A6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6C09-DEF0-47CB-93EA-B9C0A81FA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C67C-0D00-4D79-8957-FA6E1B01E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4722-A4DB-4128-8247-478F9E0D8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39DF-C9A2-419D-AC92-BF82E7B0D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B14C-257A-4BE4-89AE-3E3F2DF6F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318D-A808-4D1B-AA7D-5CC4F006E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2422-5146-49C5-9EA7-3807128D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B5BE-9E9D-4AF4-A3F6-A25FDF20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172A-0C10-4512-B8DC-BE3A69B4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EEFDEA-B7D8-4836-ABC8-25B49AE6650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