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16284"/>
        <c:axId val="43125634"/>
      </c:barChart>
      <c:catAx>
        <c:axId val="27716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25634"/>
        <c:crosses val="autoZero"/>
        <c:auto val="1"/>
        <c:lblAlgn val="ctr"/>
        <c:lblOffset val="100"/>
        <c:noMultiLvlLbl val="0"/>
      </c:catAx>
      <c:valAx>
        <c:axId val="43125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16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063-571B-4101-9649-842A1410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C20-A21D-4137-A837-24EF0C9C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F39-2B81-4E6C-A1CF-FA5CE27D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D27-A580-4E4C-B6C4-5BEC6C35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68A-2A21-41D5-AA53-DDCE4F17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28D-2089-4627-819B-26429DC2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28F-E287-418B-9070-2620B788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E03-B308-4F14-AC0D-6A83D198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DCA-4EA6-4A0D-B6C6-2F156DE2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5EF-C374-4F90-9E7A-F4086B21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391-44C4-4124-87FC-7AC3A59C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91F-B1CE-4F81-861C-F6FDDB7B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C750C-D0C7-4E0C-92E7-3B7F0B1570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