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624455"/>
        <c:axId val="72962681"/>
      </c:barChart>
      <c:catAx>
        <c:axId val="436244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62681"/>
        <c:crosses val="autoZero"/>
        <c:auto val="1"/>
        <c:lblAlgn val="ctr"/>
        <c:lblOffset val="100"/>
        <c:noMultiLvlLbl val="0"/>
      </c:catAx>
      <c:valAx>
        <c:axId val="729626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244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2BDA-F234-4CCD-B02A-3AD81A42D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22EB-3E51-42EE-BBAE-875266C8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720F-A655-40FF-A3C1-B8A188E5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61D6-E59B-423B-8A62-9D2574F27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EDE4-7604-47F1-B176-C2001927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05B8-D333-43B4-8D05-9A8FB757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DD1C-1AD4-45AF-9AB7-E93BC45C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513A-1ACE-4142-99F0-E6AD4E47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F1FE-49DF-464C-B188-144B9C94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8A35-943A-4CBE-852E-87543300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CDF4-2F70-4862-A336-468C8A6C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1616-56D0-40D4-A482-D88CF275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928F0-2DE5-4EBE-B8F7-FDC25A37E1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