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84954"/>
        <c:axId val="53653692"/>
      </c:barChart>
      <c:catAx>
        <c:axId val="45084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3692"/>
        <c:crosses val="autoZero"/>
        <c:auto val="1"/>
        <c:lblAlgn val="ctr"/>
        <c:lblOffset val="100"/>
        <c:noMultiLvlLbl val="0"/>
      </c:catAx>
      <c:valAx>
        <c:axId val="53653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84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D2E-D8D0-4B73-8721-1EAD33AA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DA0-6B23-4F26-BE1B-15C839E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8C6-8CDB-42E8-8D4B-597B3A7F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6AC-BCFB-439E-BC55-33657BCF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192-54A8-40A1-A63F-26B4114D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1AE-7169-47B4-AF37-076F53A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24C-3FDE-441A-A9F7-247EEBF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B41-7841-420F-A184-7CC9A17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7EA-F9D8-4B5E-9C43-2D2E6F3F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1C7-67CA-4ED2-9D7E-94686F2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627-6DAE-46D1-A395-0BF9C7C7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5EA-DF9A-43B3-96F8-018E408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3850-1485-4C00-BB4B-860FDE7CA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