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60153"/>
        <c:axId val="62228380"/>
      </c:barChart>
      <c:catAx>
        <c:axId val="83160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28380"/>
        <c:crosses val="autoZero"/>
        <c:auto val="1"/>
        <c:lblAlgn val="ctr"/>
        <c:lblOffset val="100"/>
        <c:noMultiLvlLbl val="0"/>
      </c:catAx>
      <c:valAx>
        <c:axId val="62228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60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0A5-B94C-43D7-AE15-14F51926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374-04F5-417A-A2F1-7F01232B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CB4-77A8-48A7-9E51-99B9160B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8BB-810F-4E50-A0CE-28E36CD7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F17-A6EC-4B2C-BE8C-775DA99C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722-BAEF-42B2-8590-BBA1DDB0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737-716D-4E8E-9D56-67D4557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C9E-1876-4526-9ED8-085BFE36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E8F-486C-49ED-916E-BA434A64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A82-3793-4F0A-9F1F-8CCA36C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17D-C609-4E29-8867-783E4439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365-1531-4A3B-83FD-F3D83CAF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43212-C1BD-4182-9695-1A2C4F405A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