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56536"/>
        <c:axId val="15091131"/>
      </c:barChart>
      <c:catAx>
        <c:axId val="44156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91131"/>
        <c:crosses val="autoZero"/>
        <c:auto val="1"/>
        <c:lblAlgn val="ctr"/>
        <c:lblOffset val="100"/>
        <c:noMultiLvlLbl val="0"/>
      </c:catAx>
      <c:valAx>
        <c:axId val="15091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56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E96-0AFC-45C4-8C7A-B1400BD6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B3D-3B2D-4AC1-927A-D04B89CE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823-147B-4DDA-A648-A4391BFD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B19-BEDD-4B3D-B9FB-BED0672C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552-A8E7-4248-9366-A67803C8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541-A765-46F0-B6E0-0AB3AC10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9B5-C56E-488F-BDF1-3C084E20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891-168C-4116-B3B6-020D655A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B2B-571F-4FFC-B2AB-2CFB7278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22F-B41C-4C7D-BE2E-46498A85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C15-8E8D-4D4D-9FDD-E86F3943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27B-6DA0-4213-98B8-EE9B1995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4678A-FE05-461A-813B-C30DD87B3C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