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616690"/>
        <c:axId val="78429046"/>
      </c:barChart>
      <c:catAx>
        <c:axId val="986166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429046"/>
        <c:crosses val="autoZero"/>
        <c:auto val="1"/>
        <c:lblAlgn val="ctr"/>
        <c:lblOffset val="100"/>
        <c:noMultiLvlLbl val="0"/>
      </c:catAx>
      <c:valAx>
        <c:axId val="784290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6166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293F-A70D-4A30-ADAD-D661DAE9B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C881-EDE6-4264-A311-B9CB272AA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B3FA-5353-4600-A740-DC4A39578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23EF-1C3C-486D-9A77-0182FD5B8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21A8-3B86-4E17-AAD0-CA62B2FB3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9870-A301-469F-882A-0031DC98A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70F3-2972-4C1E-BCE9-3BB4F0C22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123D-18AB-402C-B20C-2846CE1FF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F821-C661-4088-9641-9B0A61DEA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5111-8F4A-4B47-91FE-27BE1D0FA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9E43-8592-4768-9E32-F73DB0B1C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9A3D-0D50-4F1E-A735-FFFA6EA7C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DF1410-8467-4DF2-8F64-786E7257940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