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62312"/>
        <c:axId val="68884746"/>
      </c:barChart>
      <c:catAx>
        <c:axId val="23462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84746"/>
        <c:crosses val="autoZero"/>
        <c:auto val="1"/>
        <c:lblAlgn val="ctr"/>
        <c:lblOffset val="100"/>
        <c:noMultiLvlLbl val="0"/>
      </c:catAx>
      <c:valAx>
        <c:axId val="68884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62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771-1269-4062-BF65-3119515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4F3-4FBF-4C9B-99AB-8449231E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095-623E-41A8-9195-64BCB77F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0C3-42F3-4E6D-9484-6FA61371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B05-9A0C-4A38-B675-3AAFE10F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48F-C6C2-4764-941C-898D3A3F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0EE-74BD-4658-A084-C0CC93C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71F-8855-4D35-8648-04290C7B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DD9-285E-4985-B24B-FAD5B04F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969-FE87-44B9-A6D4-531094B3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04E-0EB0-4B77-BC38-40909E4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F89-73B9-4263-A51D-8FA81AC0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8D307-1285-453A-8132-8BD99B3ABA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