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8516"/>
        <c:axId val="63643156"/>
      </c:barChart>
      <c:catAx>
        <c:axId val="5915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3156"/>
        <c:crosses val="autoZero"/>
        <c:auto val="1"/>
        <c:lblAlgn val="ctr"/>
        <c:lblOffset val="100"/>
        <c:noMultiLvlLbl val="0"/>
      </c:catAx>
      <c:valAx>
        <c:axId val="63643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3FD-F23C-4CA3-B447-B1557DE8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BA2-1F85-4F0C-9E8F-ED053BC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831-0423-4C49-A99D-7FC5AC1A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6EF-BD50-4475-BBB0-8CBA84C6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51D-54DC-4E61-8FA6-1A928B57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891-A7FA-4C70-8E65-A81BDDAE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1FA-AE24-471C-8E67-8021425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2BC-4590-49FC-9FE0-52D331E0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5D1-0A0D-4142-8EC3-1A22B8B3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2CE-996F-4D13-9487-6077163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486-9487-437A-8DE6-FB2C4F1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AD1-A9CA-4314-80BA-5D1948B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AFC1F-6350-43C9-AA09-7271A40CF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