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32322"/>
        <c:axId val="46239388"/>
      </c:barChart>
      <c:catAx>
        <c:axId val="85132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39388"/>
        <c:crosses val="autoZero"/>
        <c:auto val="1"/>
        <c:lblAlgn val="ctr"/>
        <c:lblOffset val="100"/>
        <c:noMultiLvlLbl val="0"/>
      </c:catAx>
      <c:valAx>
        <c:axId val="46239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32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9F7-8D27-4C5C-AA27-D86AD756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B17-3508-49F8-8448-79E6BB4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847-8727-47C5-84A3-F18D0A1F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5CF-349C-449D-9166-17279028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97F-3951-4F2F-9B62-A6D073C2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D89-266D-4726-8C99-F4A05126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188-16A9-43DE-9EC4-F0476084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E23-4626-4D1C-AA11-46B988BD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945-DDB6-44D5-B062-BDE79C5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EB9-32A1-43FF-A946-8DC2605B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64E-8297-4F18-9DBB-796D4BC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0C5-D654-4614-BA67-EF929528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F158D-0661-4AD2-995F-99698F5FCF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