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02566"/>
        <c:axId val="71132656"/>
      </c:barChart>
      <c:catAx>
        <c:axId val="26025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132656"/>
        <c:crosses val="autoZero"/>
        <c:auto val="1"/>
        <c:lblAlgn val="ctr"/>
        <c:lblOffset val="100"/>
        <c:noMultiLvlLbl val="0"/>
      </c:catAx>
      <c:valAx>
        <c:axId val="711326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025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DC0D-2192-40EA-B906-D7EB2F722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13D4-EA77-45CB-87F0-5C62BD40B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2264-C686-4C00-974F-411B5B6E7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7510-EC47-4891-9610-560465EC9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56A4-C615-44D7-84FC-E946BB124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25F8-DB56-47FC-BA5A-169E3036B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B49B-7665-494E-A1F5-3BDB7D7C1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5A51-A08B-4BC9-8B1F-78DEB2E39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9596-27CC-4645-8699-0C85CCC74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245B-D0D9-4CC0-A57F-53FAB057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8A90-C96F-43E9-9040-5FBF8081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ABDB-A00D-4FFE-A975-2A3ED48D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170D18-3C91-4677-BBFE-67857E3A126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