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106910"/>
        <c:axId val="76379721"/>
      </c:barChart>
      <c:catAx>
        <c:axId val="851069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379721"/>
        <c:crosses val="autoZero"/>
        <c:auto val="1"/>
        <c:lblAlgn val="ctr"/>
        <c:lblOffset val="100"/>
        <c:noMultiLvlLbl val="0"/>
      </c:catAx>
      <c:valAx>
        <c:axId val="763797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1069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1818-8F8C-4952-BB6C-95B657FDF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0CEC-F911-4ACA-A391-7AFCF53A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D316-AEFF-4028-B43B-46BC499D6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1761-69B8-4584-B5AA-6FE7DF024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0BDF-E2F1-4E52-909D-51127D05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8C4C-F4BE-424F-ACAE-38E85757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37DC-69B7-402E-99E3-9994CB99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1413-13E6-45E9-8AC2-0C3B4EB5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CD75-68D0-4CD4-8D6C-4CB7DCD1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1DED-12C1-4B3D-A181-1F94DD86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1A40-7E9D-40BB-A001-93E16FFC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6601-DB3C-4C20-943C-2D9D1591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47E810-D7F4-4C2B-9E70-31F862C9DA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