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66957"/>
        <c:axId val="25374347"/>
      </c:barChart>
      <c:catAx>
        <c:axId val="17866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74347"/>
        <c:crosses val="autoZero"/>
        <c:auto val="1"/>
        <c:lblAlgn val="ctr"/>
        <c:lblOffset val="100"/>
        <c:noMultiLvlLbl val="0"/>
      </c:catAx>
      <c:valAx>
        <c:axId val="25374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66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1E8-5256-4624-A95E-A40A5728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860-A6EA-4B56-9D06-2F86C6EA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9F4-7EF7-4B75-848D-CFF243F9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A4F-C6D1-408C-8C75-A67D848B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B38-B77B-4DA3-B6B9-BAE31443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A4C-F418-4BC4-BB99-752462F2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9B8-73F6-41E9-B168-D939458E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010-11B4-4173-A2A2-6524A78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7AD-6B00-4FEB-B9D8-A7BE3E60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012-8FBC-4CF5-A69A-FDEA598C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238-F281-4EFF-8146-5A02C26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398-7604-43CB-8FEE-9CF4A752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C47CE-DB9D-42ED-B81E-3B76150652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