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82398"/>
        <c:axId val="50630647"/>
      </c:barChart>
      <c:catAx>
        <c:axId val="47382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0647"/>
        <c:crosses val="autoZero"/>
        <c:auto val="1"/>
        <c:lblAlgn val="ctr"/>
        <c:lblOffset val="100"/>
        <c:noMultiLvlLbl val="0"/>
      </c:catAx>
      <c:valAx>
        <c:axId val="50630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82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DF3-0A63-43AC-BE1D-7E04A369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F67-1D28-43E0-81BA-1F57934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EAC-E922-410A-AA5A-5BD66910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B5C-B6E4-4062-84EE-0D440A32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CDA-9C63-4457-819E-4253A55D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125-9A1C-4313-A125-9AA3111F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7F7-23AA-4CB4-B21B-1AD063C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E96-23CF-4200-9DB6-E6EE2E1D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EF0-E7BD-406A-81AB-5A3EA1B9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C86-C55A-4261-9E9D-C0F3D38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AD4-CA71-4339-B2D4-E6983BB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02A-D6EF-40DC-A788-B367DBBA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087EE-52D3-41D6-A4DB-0D5ACA0AD8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