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19954"/>
        <c:axId val="59844817"/>
      </c:barChart>
      <c:catAx>
        <c:axId val="92519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44817"/>
        <c:crosses val="autoZero"/>
        <c:auto val="1"/>
        <c:lblAlgn val="ctr"/>
        <c:lblOffset val="100"/>
        <c:noMultiLvlLbl val="0"/>
      </c:catAx>
      <c:valAx>
        <c:axId val="5984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9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010-97BC-4DEF-9461-E818D98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0CB-7F4D-4C50-BCAC-486D76A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489-3766-4AB4-8E11-E8EA1201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161-59B5-416C-8FA8-3C49CF9B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614-E56B-4BF8-9E91-4D1AD38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A50-D9A6-41A5-97C9-BD1ECE5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A01-46D6-4BA1-A8EB-5572488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E8C-8D74-4C5C-9A81-8A2894DD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9C7-4376-45D3-A01F-84F77A7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1E7-BBD1-4727-8D7E-7D03065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BBA-AC94-417C-BB07-E58FBEB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ADA-4B3E-417C-B7E0-DB0B173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8F5CC-9C1B-4060-A149-38E376376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