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89433"/>
        <c:axId val="96127087"/>
      </c:barChart>
      <c:catAx>
        <c:axId val="79389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27087"/>
        <c:crosses val="autoZero"/>
        <c:auto val="1"/>
        <c:lblAlgn val="ctr"/>
        <c:lblOffset val="100"/>
        <c:noMultiLvlLbl val="0"/>
      </c:catAx>
      <c:valAx>
        <c:axId val="96127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89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9CB-A38C-45D3-8B84-539A1DC4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8A5-911C-4D64-BFA8-61F245CC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008-E10E-4D48-B87B-11A0F38E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353-0174-4CF6-8057-58FDFA6F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765-678C-4A35-94DD-4C251828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E41-B7A7-4428-A60F-60F4D4FF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DC1-7E07-4BEA-91C9-949CBFF6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C20-3DA7-47D0-8B46-F630CB3E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17C-8373-463F-B504-9C2C052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CCF-FFCB-429E-AC6F-740BB0CA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EC7-6B8A-4BD9-A8FB-2929595F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A9F-1F76-4B25-B076-9F72323D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44767-6B01-481E-9E7D-FCD104D5CC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