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83764"/>
        <c:axId val="16956309"/>
      </c:barChart>
      <c:catAx>
        <c:axId val="8258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6309"/>
        <c:crosses val="autoZero"/>
        <c:auto val="1"/>
        <c:lblAlgn val="ctr"/>
        <c:lblOffset val="100"/>
        <c:noMultiLvlLbl val="0"/>
      </c:catAx>
      <c:valAx>
        <c:axId val="16956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8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2DF-54F7-4786-85B2-639D2E9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653-3068-4A79-9343-8E1B700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F43-6AFE-4238-B41B-589A9D95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B29-73C3-43EA-AC5F-592B3C24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85B-F3EC-46A4-A9F8-48AF2C8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7C5-BC6E-4C7A-8C62-DF298662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BDC-DE44-45A6-9A42-4F22147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6BE-336D-44B8-A77E-78B4745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707-1A21-4874-B2A8-20FA38B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539-8517-4B89-8FB4-07BB2E2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CB8-5B39-4A99-898F-96AAC32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1E6-2306-4CEE-83CD-97636BF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C83F-6963-4FCE-94B9-9516AA784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