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25715"/>
        <c:axId val="49471488"/>
      </c:barChart>
      <c:catAx>
        <c:axId val="58125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71488"/>
        <c:crosses val="autoZero"/>
        <c:auto val="1"/>
        <c:lblAlgn val="ctr"/>
        <c:lblOffset val="100"/>
        <c:noMultiLvlLbl val="0"/>
      </c:catAx>
      <c:valAx>
        <c:axId val="49471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25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14C-8EBA-4D33-96A1-A38AFE64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6C1-56C5-42B8-992B-32F4EFAC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A6C-705C-4A40-A402-86468E93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8B2-01E2-4603-B7A4-F2AAE6DD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420-6E6E-435A-88AA-6B876EF4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A14-0769-474F-9D88-2204E32E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B8D-A784-46AA-A130-604BD306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B514-00C6-4F43-8782-74EA4D9E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CB8-2A6A-40DA-B6C1-6B2F422B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119-240F-4067-85A3-9F54C4E3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809-2743-4637-84BC-4E177785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B20-B829-4B19-BEAE-61261642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BAB2F-7CB8-459B-A94D-21510A16EE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