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74602"/>
        <c:axId val="13837261"/>
      </c:barChart>
      <c:catAx>
        <c:axId val="18674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37261"/>
        <c:crosses val="autoZero"/>
        <c:auto val="1"/>
        <c:lblAlgn val="ctr"/>
        <c:lblOffset val="100"/>
        <c:noMultiLvlLbl val="0"/>
      </c:catAx>
      <c:valAx>
        <c:axId val="13837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4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7E6-3430-4871-9147-D205967B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97E-7CC6-4E7F-9829-741EC0E2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C14-AB59-49DB-A39B-059D75DD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563-9CBD-4B9A-8D1E-1F4DFBF9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A5E-5225-47F8-B0F6-7A3A9AE0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ACC-0481-4ABF-B05B-EBCE460F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DD8-168D-4D50-AC79-E71006C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1BD-4AD1-4F43-A315-32471023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598-82B5-40C4-85A2-77469D0E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966-FA81-4E0F-82AD-2390341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681-4AAC-449C-9882-8D80ACD2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C96-A4EB-4C54-A5AA-BA565BC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D272D-2012-44A4-B042-EEF1D539D9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