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796888"/>
        <c:axId val="58391316"/>
      </c:barChart>
      <c:catAx>
        <c:axId val="797968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91316"/>
        <c:crosses val="autoZero"/>
        <c:auto val="1"/>
        <c:lblAlgn val="ctr"/>
        <c:lblOffset val="100"/>
        <c:noMultiLvlLbl val="0"/>
      </c:catAx>
      <c:valAx>
        <c:axId val="58391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968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8BE-9D0E-4E59-B3AC-091BC8D1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DB1-E1C2-4E59-9065-8B580DB0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C68-A96F-4FB3-9423-3BA4B93F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72C-C713-41C8-949D-3D765605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924-CDBA-47AE-A6D2-6AFA6A55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509C-9176-4E92-86CD-25289E39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F618-5359-43C0-A90E-638A6FB4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47F-C1F2-4FAA-94E1-2D137922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1A4-E6B0-4D45-9571-7096F0C7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4218-F6BF-4CCB-8F72-20747D93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F1D-EAF4-419F-BA4E-AFBD145E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5EB-1053-4FC2-B9E1-BD35F068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69A22-761E-4C6C-B4B1-56E9F8D384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