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85344"/>
        <c:axId val="28844632"/>
      </c:barChart>
      <c:catAx>
        <c:axId val="29185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44632"/>
        <c:crosses val="autoZero"/>
        <c:auto val="1"/>
        <c:lblAlgn val="ctr"/>
        <c:lblOffset val="100"/>
        <c:noMultiLvlLbl val="0"/>
      </c:catAx>
      <c:valAx>
        <c:axId val="28844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85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F27-70FB-4EE2-8D74-84A5B962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E2A-FD5D-41CB-9B57-C2ADD62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749-45DE-4855-9145-1D17A4E9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B4F-EE3F-4F32-A225-E9CA9B21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B06-86D7-458A-B738-765403A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2FA-5332-432A-AAC1-3D93D11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676-2A59-4427-9AB3-4A91AE44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8C9-3BBC-4FC4-941D-5A550CB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EE0-E507-4C59-A5F0-C06DE6B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C2D-CBD5-4004-B6B5-82E71DB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6D9-3762-4A5D-9DC8-6AD2542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9A4-CC56-4DA1-88AE-30976A6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4A72C-1E79-4283-B617-363125DA7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