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32370"/>
        <c:axId val="50734449"/>
      </c:barChart>
      <c:catAx>
        <c:axId val="34032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4449"/>
        <c:crosses val="autoZero"/>
        <c:auto val="1"/>
        <c:lblAlgn val="ctr"/>
        <c:lblOffset val="100"/>
        <c:noMultiLvlLbl val="0"/>
      </c:catAx>
      <c:valAx>
        <c:axId val="50734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2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B5E-4D1B-4D0B-9DB4-BE26C4B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70A-5F57-4E9E-B69C-5F744648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891-8C05-4B81-AA78-441B8C3F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DBC-6261-40D5-8CEE-7CF94AB3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750-CDD6-4264-88FA-41B19C2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6A0-9749-467A-A9E7-1F14937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F9E-4E07-4622-BD65-22D3A9A7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EB6-03FD-45B1-B31F-46F9E87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E90-E1F8-4E4D-AC9B-E201553D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545-B15E-4416-86FA-1ADB666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9DB-D489-48EA-BCA3-DFBC50C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1EC-4533-4DCA-9ACE-F90519D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EF28F-3CAD-4A9A-986B-5E59C5E5D6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