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69435"/>
        <c:axId val="47272330"/>
      </c:barChart>
      <c:catAx>
        <c:axId val="93269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72330"/>
        <c:crosses val="autoZero"/>
        <c:auto val="1"/>
        <c:lblAlgn val="ctr"/>
        <c:lblOffset val="100"/>
        <c:noMultiLvlLbl val="0"/>
      </c:catAx>
      <c:valAx>
        <c:axId val="47272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69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9FA-8B13-4548-AB8D-266A8C23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0D9-8C77-4F18-8D9F-C560A613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052-7A0E-4DDC-8C41-11FD9F15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EB0-68CA-4748-BC53-51DE7F45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1AA-11FC-42B5-8416-52458556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C56-838F-401F-A1AD-1EE4B5DE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797-1C2D-45A3-9A07-7CAA939C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8F1-167E-4D9D-ABAD-DA618870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B7E-E5A4-4F54-9950-46DCC7C2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726-A4A2-45C3-B37C-899563E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300-481E-486D-8D4B-E2BE4401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C9F-8925-4C31-ADED-AB1F8A04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2E301-5CB8-4145-9E4F-38DBEC8C86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