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11418"/>
        <c:axId val="81586793"/>
      </c:barChart>
      <c:catAx>
        <c:axId val="63611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86793"/>
        <c:crosses val="autoZero"/>
        <c:auto val="1"/>
        <c:lblAlgn val="ctr"/>
        <c:lblOffset val="100"/>
        <c:noMultiLvlLbl val="0"/>
      </c:catAx>
      <c:valAx>
        <c:axId val="81586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11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FA8-D144-47CB-8A3A-CA5F2A11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5EF-D9D8-4B98-9033-5F18091B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16E-9416-4203-85DF-DC95C92B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18E-9080-4E09-B50A-DF25B92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875-EA9D-4C1F-B80C-658E34C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CB9-BFD6-44C6-B8C0-66DCDCD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CDC-DF9C-4F0D-8B35-7A6500C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DE7-3595-4425-83DB-43CFCE1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F92-2888-4C5C-AD08-939158D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3B8-9617-427C-92BF-B53D6F8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A23-226D-4D6C-87B9-7BEF1DE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C6F-21B2-4179-ADAD-EF1CA5A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BB405-D9FA-4B66-828E-98F0E0FAA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