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95007"/>
        <c:axId val="61142672"/>
      </c:barChart>
      <c:catAx>
        <c:axId val="67595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42672"/>
        <c:crosses val="autoZero"/>
        <c:auto val="1"/>
        <c:lblAlgn val="ctr"/>
        <c:lblOffset val="100"/>
        <c:noMultiLvlLbl val="0"/>
      </c:catAx>
      <c:valAx>
        <c:axId val="61142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95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4C4-CD69-444D-B8D0-C9D8E70E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DAE-F880-4998-8D0B-0D74BC09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121-C7F8-4D52-90AC-34D5AF03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E71-FEAF-4651-984D-D9C34674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F97-9708-44B1-8BB8-2F5A5998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883-F682-4600-8317-0423807F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A17-3A93-4937-8E20-130B8726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013-24C3-4EC1-8008-97DDB3DC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45F-99B4-4FB3-93DF-89BF11AC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E2B-B658-4F5A-A5B1-33FF833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290-2144-482C-B5FD-C7D2571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6B2-1A90-41F1-8FE2-6AEFA26B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E3F95-5B59-4193-8DC2-63767DC11E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