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75324"/>
        <c:axId val="96943395"/>
      </c:barChart>
      <c:catAx>
        <c:axId val="93875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3395"/>
        <c:crosses val="autoZero"/>
        <c:auto val="1"/>
        <c:lblAlgn val="ctr"/>
        <c:lblOffset val="100"/>
        <c:noMultiLvlLbl val="0"/>
      </c:catAx>
      <c:valAx>
        <c:axId val="96943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75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075-3097-4327-937C-F126A836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25F-D984-4F47-8F05-4477E47C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6FF-2685-4F82-86F3-E15F9574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398-B0A3-4067-8520-44425071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709-C703-404E-ABEF-8EE19ED8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2C8-A5C7-4353-803B-316D34B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AA6-6334-4D55-8736-4014C5A8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30B-6227-467D-9E77-28CD0B5F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186-4C86-4A59-A216-67554744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2E9-4664-48CC-A30D-950C01B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854-C557-4191-8F37-A78C1CA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1D6-CACD-4966-90DF-D6D0B03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9692-0D9A-4E1F-B4BA-DAE1FF223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