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69206"/>
        <c:axId val="63224814"/>
      </c:barChart>
      <c:catAx>
        <c:axId val="90969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24814"/>
        <c:crosses val="autoZero"/>
        <c:auto val="1"/>
        <c:lblAlgn val="ctr"/>
        <c:lblOffset val="100"/>
        <c:noMultiLvlLbl val="0"/>
      </c:catAx>
      <c:valAx>
        <c:axId val="63224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69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C25-0037-4BC0-98BC-5F81188D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5E6-4815-4DF0-8435-2A5EA9FD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008-FDF8-49B9-BB6F-EB284CFB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80D-DF36-4DF3-97BF-E98A8402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0E6-9809-41C8-8EA5-177E0E1B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3C7-9555-4241-A11A-BC692913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0B7-2299-48E0-A372-F29DE844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71C-A65E-40A4-BF88-30D163F7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856-A44F-4BF4-B783-A195AB48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084-7D28-4E37-9A15-C5D7FF9B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FAA-771D-4465-824F-B9CB90D6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0D5-83BC-42C3-9CD2-B3A0596E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9BBE0-F682-4F70-B31E-767DF1D573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