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1741"/>
        <c:axId val="2006369"/>
      </c:barChart>
      <c:catAx>
        <c:axId val="3791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369"/>
        <c:crosses val="autoZero"/>
        <c:auto val="1"/>
        <c:lblAlgn val="ctr"/>
        <c:lblOffset val="100"/>
        <c:noMultiLvlLbl val="0"/>
      </c:catAx>
      <c:valAx>
        <c:axId val="2006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1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53A-AA35-417E-98B1-CD888A2C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29E-4A55-499C-B569-426EFEBB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C75-5C01-46B1-92A5-C5A15DDE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9F6-79F8-4E51-8517-D33591B2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1D3-6D08-4E3F-BD0C-92F4403F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D03-B83B-46D9-87F3-B25BA657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D86-7599-454D-A090-A85C1583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AC0-AE93-4838-8D08-30E92D4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591-6E2B-48D0-808B-6E51F062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6E6-1F53-46B9-B4CC-3CE4AE47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9A5-C162-4C50-BD30-D2F7BBE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D8F-35E2-4C96-869C-02CEE970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62C6F-BFF6-4442-9EFC-9A3B8F6CAD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