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66155"/>
        <c:axId val="67461445"/>
      </c:barChart>
      <c:catAx>
        <c:axId val="101661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61445"/>
        <c:crosses val="autoZero"/>
        <c:auto val="1"/>
        <c:lblAlgn val="ctr"/>
        <c:lblOffset val="100"/>
        <c:noMultiLvlLbl val="0"/>
      </c:catAx>
      <c:valAx>
        <c:axId val="67461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661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FA2-29A1-4C66-BC81-54333C29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6AB-8EB3-423C-A813-D69E22DB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2A1-9396-4355-9D4C-96D92A12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18C-4597-4C50-8218-A37FEF48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E05-6B51-4261-B9F0-01F6F78A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729-1985-49E4-ABB3-8B34E65B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ED7-98BA-4801-ADD6-0375B848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BA8-EA16-440E-8FC3-8BD970C5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CDC-BB8B-4650-BE72-332BF20C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575-4419-463B-91ED-E0221D66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ED0-08DA-4B1F-B585-047B3FFA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BEF-B096-4B41-8212-AD2B3D6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1661-CACA-4030-86EF-638F58B70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